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3A0-921B-4BDC-889F-9D8FF446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87D-1034-4940-A13E-6C84A89F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B97-B0C5-467D-8FD2-61170E37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5FB-D4C8-4701-B19C-9D7DA3FB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3CA6-9F83-4DD5-A86C-96E16120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3F65-54D1-474D-A346-33F0A120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FB6F-D974-4A00-8663-56CFA229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AF0E-8631-4655-A428-0B3E26DD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AEFC-C861-47CA-9AAA-6BB47131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19CA-C192-4C77-A224-857D528B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C50E-AAF9-4586-A6DA-97CC1BBF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ED4-8985-4650-A2A3-01C4B89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407C-E12C-4B47-8143-E180F443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D1BC-A4AF-4818-8F79-94EE79D8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CA1B-EE61-4A71-9C46-2F5D8BFD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7746-9A7C-4EAC-ACBA-4D544EF9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63AB-25E2-462C-9840-D84CAB9D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A2D-AF2E-4C1C-A8F1-33217E92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2AA-0B31-4011-BBFD-47BFA207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9A7-F138-44B5-AEC7-F10AF1AF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75C-B66F-49B4-931D-14DE563F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DFA-1FF2-4869-9FD8-C506470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972-F119-4FB9-A082-4A7861E6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B33-5115-44A1-A788-4F7F27E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085-D0D2-4C17-9911-D8F265ECA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8BEA-704D-4AB3-9810-5E34D940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2215080" y="126216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187280" y="2492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e N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er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06864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al blood pressure - the force exerted by the blood on the unit surface area of the artery wal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Hg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moves through the system of blood vessels under the influence of the pressure with which the heart, like a pump, pushes blood into th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highest in the aorta and decreases to the arterioles and capillaries, while in the large veins it is almost equal to zero (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factors that affect the value of arterial blood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al activity of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ntric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se performance is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RESISTANCE to blood flow (P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specially resistance in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A normal amount of blood in the circulatory system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836280"/>
            <a:ext cx="7377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echanical capacity of the he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amount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nerve vasoconstrictor tone of arterio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blood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hange in any factor leads to changes in TA (hypotension / hyperten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6880" y="428400"/>
            <a:ext cx="73771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iastolic and systolic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lood pressure value that occurs in the arteries during systole, when the stroke volume is ejected from the left ventricle into the circulation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over the brachial artery during blood pressure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value of blood pressure in the arteries during diastole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brachial art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crease in diastolic pressure is (almost) always due to an increase in P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57120" y="1143000"/>
          <a:ext cx="8215560" cy="444168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d pressure classification for adults (18 years and ol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973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f arter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l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ygmomanometer with cu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lp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scultation method - Korotkov's tones (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Windows User</cp:lastModifiedBy>
  <dcterms:modified xsi:type="dcterms:W3CDTF">2023-10-20T08:52:42Z</dcterms:modified>
  <cp:revision>59</cp:revision>
  <dc:subject/>
  <dc:title>Slide 1</dc:title>
</cp:coreProperties>
</file>